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CA09-3734-46EC-8FFA-92CF0646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0093-2187-4962-938E-7EAB42E0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23225-9670-4979-B2D1-989B409C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05A90-5F76-497D-9CE8-C65D11FB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5F14E-70CF-438E-A814-CFF8926C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B9BB3-F578-4C17-9A57-9A195839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C15B2-21FD-424A-A636-B85F01C7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22268-DC74-4395-A721-1B31C2C9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CBC52-FBE2-490C-8440-2C39E1C1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DBFB7-BF20-4896-8038-3423B366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65CC6-B1BC-4CF6-A7E4-E0A4D4C0E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184BF-F334-430C-B3A8-092B3CF0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4F21-0E76-441A-A840-EE413BD99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7CFF6-F496-4B78-8400-F9F00C2C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24075-83D0-4706-B8E2-F0D66345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40550-5B0E-4200-BDB8-31D869FE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72DCF-A067-406F-9CD9-D8F09E00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220FC-0105-4163-AFA0-27FC47C0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BF476-E9BA-4E4F-AAF6-431CA2FF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82349-8D31-4E44-B837-32FEEA6D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D93AC-CCB6-4C8E-B968-54B6B72B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F0D05-1DB2-431D-959B-3FFCCD87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20671-2034-4748-81EF-DAC7C543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EAE2-FC5D-48BC-9A6A-739D8795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5DE04-0F88-43DC-B91B-1FDFD140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943B8-FECA-40DC-9658-F8B27DAD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B505E-077E-41D3-B74C-F457DD74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EAFCE-5F8D-4C14-A928-82BAC4EB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B15D9-1453-488E-875E-A994D451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9BB5E-3334-49C0-A2E8-05A3BB2B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40B2E-B83D-45AC-A9B4-07D561EB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2D205-903B-48C1-B1CC-BE375B3F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2BCDA-6D9A-4B1D-AC69-232EC643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92456-3F88-443C-8165-F8D2EA7C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DEFB-6558-47C8-84B7-37A1F13B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0D348-979E-46C9-B438-3CDD20AA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5E7C9-E62D-4C51-8D6B-64B78E78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E8DBF-41E0-49F2-B7DB-CF080DC5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12B6B-EA34-478C-A0D7-2C979791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A9FA1-B4B6-4FC2-B6F9-F4C953CC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F4D10-D841-428D-9740-0749C21C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14C62C-ADD2-4852-B5F3-5DAB2E35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49340-1B00-437E-86EF-2020FD7D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BE814-AC34-4B60-8E93-4780ED03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01B42-8FB3-468C-A94B-AA7A4D7E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D7E1-62AF-409B-B122-84A0CF30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5B082-9C0D-4D9B-94D4-4CF02E63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09C8C-D8AB-46EF-A3E0-C3FF80A8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3F81C-B799-4FB1-AC28-146C50A0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FAAC4-9133-497F-8E03-117C93046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58A7C-96C5-4E60-A789-BA060D4B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799D1F-6C37-4EA4-8E91-1402E481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3D0976-14BA-4EF1-8526-FBFC5F42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E648F4-B635-47AE-85AE-A933A2E8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B28AD-F5FF-42E0-A972-753EA023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5E451-00FA-492A-8189-4CD3BBEA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11CA-6C32-49D8-B085-77864CF5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C459A4-860A-4216-BDE5-F0A67C15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4C224A-AFAF-4AD4-96C1-F6DAC9D9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2E0056-9493-4A01-9DB5-1C463445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865CF4-3289-4A73-9138-762C157F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70DD53-89CE-4308-AC69-6205280C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9B009-F1DD-4E7F-A078-FFD45984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C4D4BA-31BD-46A4-BDFD-11508143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EB8389-6420-4EA4-85C5-52689D4A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61BC53-2C7E-429D-A454-2E43F689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5D9D0E-A6D3-4BD0-8DF4-F6EA849B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A691-E726-47BE-8E8D-8C2EB100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4DE8F7-4A35-4D96-A2B1-D3BB7804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8066E4-E16E-4B1F-9632-91561C72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16FC09-2B27-4DA6-88BC-BD204090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1BD645-3013-491A-BCFA-3D517A2D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F4BED5-30C7-436A-AACD-13E47D30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672DA1-A702-4070-8ADB-97D49137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8ACBAC-D5D2-446F-9E11-16427105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90C079-5C99-40F8-8764-552C5B0E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71170E-83F2-4F3A-B684-88C9244C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5204AF-9238-4B91-AE6E-20E44F14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6C3F-CA79-42E7-95EB-2C7FB8C4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995230-3D57-4607-8BD4-360B1DD6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02AF8A-EDB4-422A-B09C-B39091E1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7E97C6-A49E-4A53-81B2-4DE86A68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BA1F19-9740-4AA5-B32F-2769D54B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6C734D-EF5C-48D7-980E-F5650A4C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5A35FA-4090-4633-9EC4-3B4B4BAF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C9E226-61D5-49C6-92E5-EB9C2BB0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DA8600-49AD-4F5B-8941-A788B48B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788251-7143-417A-B789-9BD18F1C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7288EC-118B-48F5-94F5-60AE6BF8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44CE-A525-4290-B36F-D21919B2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809C8F-458C-4B58-A77E-904164DB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0B8C75-3A4B-4FE7-B5FE-9971FD8D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983EBB-2D3E-4138-917D-9CDA915F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8FF681-8803-48F1-B588-AF66DE35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3F55E8-48CE-49A1-AA18-F0026A5B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8891AA-8533-4DAE-8A06-08610254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A55886-7FF6-4E1F-8353-D3824544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3B5371-05E6-49E0-BD60-76560FAD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5F2A8B-78BF-486B-BE64-0A53FF14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800A3E-DAD3-41D7-88CD-1519B8BC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F2F3-E9FA-4BB3-8C3C-53E84700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17999F-3133-44E9-8E70-4CB55D35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8C6B39-D930-44ED-B21A-F08BF97DC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363DE9-9F50-4852-8EF3-4D25C249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097198-B58F-4A7C-8116-1C80DD70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73CB02-BCBB-4B9E-ABAB-F2B44286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7E0F4D-1866-4A05-8EBA-3F2D1206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1A43C8-70FB-41DB-A650-60A8F0AA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305235-537F-4C2C-AC7D-3B843924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E14333-EC9A-4680-A8E8-D529E0BC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042AE6-A934-4C18-B871-936D9FC8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8281-B4A1-49EB-A206-AADB33BB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8A08-7003-44FD-A34D-A487B7EA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B7BA72-6EBE-406C-918C-BA0AF0B4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0045B2-A06E-479C-8007-FDD46E9F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6897A4-2621-4D75-B57C-AC26BDD6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A93602-39EF-42BE-9794-6F89C7EC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78C81B-8572-4D9A-8809-AABA0F0D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7D7AE8-F0E9-412F-BB05-19D05D67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22F73F-642A-484A-9007-F9AE7AC8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B5035B-180F-4359-A168-C623A844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288858-945A-49B6-A5FC-8C9E6A2F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E36CC9-534A-431A-B11F-A3DC5437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552E-97C4-41A0-8F91-37137D93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876ACA-CA96-406E-836D-F517E370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4762EF-E341-4363-8F18-F3910459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2A6B77-124B-4344-AE9C-ABF77B8D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539E66-C86E-463C-8DC3-F6E53B94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A080F5-C7D3-496C-A637-60732F04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BFFA3A-5606-4D3F-9A2A-2E06BBD5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2CE638-ABD0-43CC-8900-FF32DB33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033694-F6D2-4D3F-AF63-4A789CB2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B6505B-A7A8-402D-8AA6-6AF74985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9B7D9E-6CDD-4F30-9F03-50577898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F0BF-CDCF-4004-BE58-41BF5618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8397A9-89C4-493D-990E-A9C1125B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FBCD66-FAB3-4F05-8C96-4E0231CE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7D1178-C7A1-4449-ADA1-D3162FDC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8A24FD-C887-43DA-843D-99018FC1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98974C-3AA3-452B-8659-C25E8DF6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722144-4CB8-49B3-B1E0-48BAD462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AE5B0D-2F84-43B9-BF87-444EA997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3D5983-1E9B-4C47-8356-1DC51449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46675F-8BDB-40AA-AA0D-885C5CC3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9FA945-6A33-450B-9418-052BA26D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E5AB-7436-40D5-A6DE-2B681F69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A0F7B0-A2CF-47F2-8F0A-F9977745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CE1153-6C51-4AFB-85ED-CCD8C8BD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B49B9C-DBD0-4328-919C-C5ABE5C4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7CB363-1AC5-4DF4-B4B8-B81FF683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D2F7CA-C2FB-4768-9856-1D5A802C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1D61F4-842E-4E93-A841-0FA04030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BDD4A8-116E-460B-9B19-CC491A71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20B76B-47DC-48CE-BDB3-085C7CD3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974A6E-A9F6-40CC-BF0B-85D040FD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534CEC-6E56-4118-8153-AFFE9006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AFCB-D18A-46D4-BB34-C1AFD302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3D68EF-18E6-4F1A-AF6F-4743929B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3D763E-60F7-4541-BA5E-FB6BCC83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59BBBE-FE16-42F8-B963-BA7BF9CF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F8C95A-A703-4A9A-9C9F-5ECD0FE8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F64E6F-D058-45CB-86A1-0864EC02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3CDBEB-7E0D-408D-A3B0-67071C05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D073C7-3E8A-4343-9B26-2C12805D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A679CB-0327-4223-A810-97710D95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89245B-DC1D-471F-AF70-4844E12C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7CF43F-7961-4D53-B816-A280A172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D5BCF-F605-4BF0-BB05-440D19FD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EBD03C-4D6F-474B-8A48-AD00C76A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EE5DF8-9DD9-4F16-B2DB-1F0292DB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96A3DC-629A-4AFE-BE34-5E2ADA64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6BDA9-A237-4E9E-9AFD-8A39D135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2942C-F7B4-4378-9E01-697FF3FC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74A58-04B0-43DA-BE74-FF5C4FC8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4DD9E-CACD-4B64-8433-FA6CE5D7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750F-16CA-4EBD-9CFE-23152EE9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4AFCA-B49C-4304-A698-C942E919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3934A-7620-4B41-8BAF-86393E69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6D799-BCC8-4358-9EFC-8246A193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D1323-CB08-42FC-972E-2263685C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6E0CA-1E89-4816-820F-46112985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1AC8E-5203-4CD9-B023-FCBAB65B3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E2609-CE40-4A92-AF97-EE226DC8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899F1-0C45-439D-962B-679DA827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FE6B0-4239-4367-BF62-98A04DEA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84046-FAC0-4586-8AB1-C38C75B9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DF09-BA46-48BD-B290-2C3C4309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AA105-4987-496D-8CDE-2F63D927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D56AE-4434-4412-A015-CB1B7EB8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A365E-28E4-4E52-B72E-91716119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F76F6-E0E8-42D4-ABE2-38EA809B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AB5B4-6F59-45A0-BA72-25099DDD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CD991-36ED-4639-840B-B0E4052D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23D0C-8434-4EE9-8E49-1DA865AF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9D649-0797-48A4-8DDA-D5471DEF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13E17-4BAC-44F1-964E-7236D885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507DD-8843-45E9-8741-CEA8DDD8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DAA6-C5F7-4733-9173-F4F94DD0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FC8A4-99D6-4D80-94C7-FB25539B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F1509-876F-48E4-B54A-36E7791D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22F5B-5B0E-4325-9487-421857F0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74C4B-FA7A-4283-A2E5-EB42F652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B422D-0A85-436F-B405-B95DF92B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84836-E6F6-4DAC-8F4F-5E99141C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483C4-1B65-4898-A428-F16496B4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78419-F65B-41E9-84C9-5FD042FF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3A6BB-7D9D-4FCF-AB00-00D1DD50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41F55-541F-454A-9C9F-B267EA89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7CC7-730F-4F60-B24D-0B03B564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D625C-0B18-48EB-A94E-08F29909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E120A-74A7-4371-A19D-5E3890FF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A8F08-4DC7-41FF-AC4F-8C6750D5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C00CC-098E-4C85-922C-9CB7310D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931A4-9F85-4992-8B15-86D227A1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1504A-CEFE-426D-B196-1438CBE6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DA93F-0F03-4493-BA53-0B8CD484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D1EBE-3779-458D-ACEB-E64134B2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D4E3E-E96D-4A73-948C-45BD7256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F80A9-8E89-41F2-9E8A-97568AB8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9A43-D99D-4FBA-9645-FDD14FDC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869C2-00FB-4313-AB6C-7E5814E5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6B2F8-2B47-4F7C-A9C8-D7DCE499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32A8D-49CA-4E02-86AD-992767BE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DB53F-20F9-4C63-9142-60BE8144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70EC2-3ADC-45FC-9CEF-B384A391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650D2-6C16-4CEB-B58A-EB631332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A8655-DB04-4298-B4E4-0FAC23B8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4CD57-7675-45B9-9007-7AF0F7C9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4F66B-FB00-4EC3-A8FF-1FA6D5FF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ADF15-3892-4FD6-BDBA-5C02ED39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8A5F-FDB3-4B93-91F7-9F84140B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98346-B54C-48FD-AD28-4E458D44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35F52-8F95-4DE5-9BB3-1CA5CD17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56A24-3257-4753-83CA-CCB91020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41BDE-DAEC-46DD-A557-3CCE2ADA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1AEEB-E203-4D35-8AD6-036ED615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5E630-C3D8-43D9-A62B-0D47944A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8D474-E3C4-4547-AA3F-767C3768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993AF-0568-4E8D-992C-59612AB3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948A8-B554-46C7-A374-3E58B60A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9BB0C-FAE1-4DC0-9FEC-A9A226CD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C6A9-51D4-46B5-AC7C-5B0331D5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8F670-75A8-4910-8F62-7F816121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B9E03-1828-4ADA-B072-37937A67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BE3E0-DB4B-42F6-9722-8E758F06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F3DCA-E253-46F2-8C8A-492822C3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75BF2-0565-4DC4-A30B-502CE406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D94B8-6D0E-4A5E-93DB-C019E1D5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19744-2F67-4B85-94FB-8A44DFE7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ACD41-ED17-4138-B5EB-CCFDBA14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157CC-6A7D-4B99-89AE-B8B0DA74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814C4-C992-40FC-80C0-4B2E99CC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C721-DE93-42F3-8BBC-B9D6AAA393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D3CB-BDA6-4216-A856-0AD579386A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4623-FF2E-4557-8F2B-FBA0B40DA1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127F-118A-4F0F-B023-80CE4C65FD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7EA2-8807-41FD-A6F5-9E51A626BE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6856-6AA3-4568-A65B-109B12B8E4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98D4-E435-43AF-B3A2-332D43BC57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B843-C5D4-4CD5-AA47-678BD2E0AC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00B7-E8C5-4DDD-90B4-D4E5FC4061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7E05-6252-4FF4-89B9-18B087A32C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D6C5-1DB0-4C2B-ADCF-A1363CE6C6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1F45-4D7F-49F7-92C6-5140654DFC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4E47-8569-44B3-A3C6-C3256CBB98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8B03-8ED3-4E6E-9B4A-29706271D4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467F-8956-4EA1-8F98-C8A6AF17B0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B410-2E69-4E01-BC62-632708FD5A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6781-5C76-43A5-9AE5-10C583E2E8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6DE0-52E2-46C0-82FF-51FBD7AA02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A8FE-CE56-4D6E-8953-D91A1FBE2E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4382-43FF-4B43-8271-EAB8E6F746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7F99-E20F-490A-9839-B6E76B1A58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4791-A97A-4A39-A767-9A973D8D5D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8911-D4B4-4D76-9566-DF4E362FE5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AFB3-B6EB-4337-A845-9C49BEAD1C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9C45-5558-46C1-B0E9-956C979F1A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57BF-D3FC-41AB-8749-14333927DD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D0D6-2E52-49B9-A33F-ED6331208F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F028-AA80-445A-9326-FC50E085E9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FC21-E01E-4758-BDE8-710780BCEE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6355-2BA9-418F-8021-FC4BE5790D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249F-A296-48F2-8194-0D62474E85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9E2C-0F78-4B86-94A6-3AB702C114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230D-2B41-40FC-8568-6E12EC882D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9A32-C360-45A4-9CC0-572E9D5B04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2715-ADD0-4BD0-B662-A388E76386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9BE2-5551-47D8-82B2-4E42B1645A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4CF6-CBCF-4DBB-8363-565B6260A6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2809-ABAC-4A3A-AC19-6501086843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F70F-A11A-4998-A8D4-F459A586D1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0014-7932-4659-8CCA-4E9DA5B52C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376280" y="2838600"/>
            <a:ext cx="639144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414360" y="585720"/>
            <a:ext cx="8315280" cy="56865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987640" y="26510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987640" y="30542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4010040" y="26510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010040" y="30542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946760" y="265104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946760" y="305424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5940360" y="2637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5940360" y="30402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6948360" y="2637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6948360" y="30402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7956720" y="2637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7956720" y="30402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1042920" y="3860640"/>
            <a:ext cx="4608720" cy="3193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395280" y="5950080"/>
            <a:ext cx="46083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9410" descr=""/>
          <p:cNvPicPr/>
          <p:nvPr/>
        </p:nvPicPr>
        <p:blipFill>
          <a:blip r:embed="rId1"/>
          <a:stretch/>
        </p:blipFill>
        <p:spPr>
          <a:xfrm>
            <a:off x="138240" y="673200"/>
            <a:ext cx="8867520" cy="59245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468360" y="2522520"/>
            <a:ext cx="3959280" cy="3189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468360" y="4076640"/>
            <a:ext cx="3959280" cy="3193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395280" y="6021360"/>
            <a:ext cx="39592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20:4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